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55B7-D253-47E3-917C-B4A046FFE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FA0A-8B5C-4748-A26E-0FC9A1C2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E89E-B167-4C11-ADB7-AADA00543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A170-F280-45D6-BC69-F2F988E40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9049-5620-4789-BB81-3A1C2E9B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29B6-8FB3-488F-8505-2CB8E3BA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8951-7762-450C-A7B0-CB43C212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476F-7A6C-451C-8F30-6ECB4B89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D456-521E-4B5F-BC27-CEA91DEE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0AA6-586F-4553-9CD8-DBF507C5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C199-2317-454D-B28A-556D3BD8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5726-B2E2-486E-8C52-BF77E0AB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3D63-7B88-4828-9C6A-27B7A8C1F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81360"/>
            <a:ext cx="9144000" cy="2276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276640"/>
            <a:ext cx="9144000" cy="23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234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11280" y="2781360"/>
            <a:ext cx="756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ERMANY!</a:t>
            </a:r>
            <a:endParaRPr b="0" i="1" lang="en-US" sz="4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91440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y is a very interesting country and I am glad I chose it! I wasn’t at the EXPO but I still enjoyed making the poster and the gingerbread house. Penny and Jye were also in my group, im pretty sure they enjoyed it to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476280"/>
            <a:ext cx="72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627280" y="0"/>
            <a:ext cx="352908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08640"/>
            <a:ext cx="9144000" cy="2349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2276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276640"/>
            <a:ext cx="9144000" cy="22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00000" y="4869000"/>
            <a:ext cx="74898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ERMANY!</a:t>
            </a:r>
            <a:endParaRPr b="0" i="1" lang="en-US" sz="4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4936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hing I enjoyed the most is putting everything together like pasting everything onto he poster and writing headings.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2708280"/>
            <a:ext cx="201600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8T02:21:57Z</dcterms:created>
  <dc:creator>Admin</dc:creator>
  <dc:description/>
  <dc:language>en-US</dc:language>
  <cp:lastModifiedBy>Admin</cp:lastModifiedBy>
  <dcterms:modified xsi:type="dcterms:W3CDTF">2009-06-18T02:53:41Z</dcterms:modified>
  <cp:revision>2</cp:revision>
  <dc:subject/>
  <dc:title>Slide 1</dc:title>
</cp:coreProperties>
</file>